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DE98-F783-4AA1-81D7-D7B0AB0D5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ly moving on because I us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lve It!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upport all of these pieces and will cover in more detail…. This is just one example…..Remember the equation is the abstract (without concrete meaning without the language to support; only when understand the language behind can the student master this expectation – fluid thinking required to go back and forth….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I go back to Dan Meyer and his water tank problem; or even solving puzz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lve 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lped me as a non-math guru teacher to always return to a concrete strategy for exploring ANY kind of math problem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for decoding and encoding; tools for identifying and sorting/categorizing; what are you being asked to do????? Word problems contain question. Equations/problems the directions are usually separate – find the value of…. Draw…. Combine….. [what is the verb??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for decoding and encoding; tools for identifying and sorting/categorizing; what are you being asked to do????? Word problems contain question. Equations/problems the directions are usually separate – find the value of…. Draw…. Combine….. [what is the verb??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for decoding and encoding; tools for identifying and sorting/categorizing; what are you being asked to do????? Word problems contain question. Equations/problems the directions are usually separate – find the value of…. Draw…. Combine….. [what is the verb??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I go back to Dan Meyer and his water tank problem; or even solving puzz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for decoding and encoding; tools for identifying and sorting/categorizing; what are you being asked to do????? Word problems contain question. Equations/problems the directions are usually separate – find the value of…. Draw…. Combine….. [what is the verb??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ackground is not math certification; supporting kids with LD, most of whom HATE math. Math tends to be taught to support the teacher &amp; cover the standards vs. for the kids. How to support through Sp Ed support, etc… is challenging due to experience with math. What is the goal? Work completion or comprehens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 minutes to answer this question; share &amp; record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 Meyer discusses during a presentation at 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lgebra? It is the language explaining what we see – but the visuals tend to go with geometry, how do they go together? THAT is one of the obstacles of developing math reason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 Curriculum Framework; Naturally as LD focused educators and parents, we tend to get nervous when folks like Dan Meyer say “be less helpful”. This is where being a professional is key. Be less helpful does not mean don’t help; or don’t do anything. Cp to Montessori as far as within structure vs. free for all…….. LEAD and Coach, not TELL and move on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2AC-97D7-46C3-B8D3-9C2E1B78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502-B29F-4811-9EEC-9DE65C39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553-D67E-434B-96C9-CEE8531C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00D-94C0-4F09-A827-981020D2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F09D-8FCA-418A-9964-57DA6A54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5720-D087-4080-B412-67CF4A95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8F78-1E8A-4040-8CE7-CEA8D4E5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5A0B-60D6-4967-BDA5-3312E55E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FB75-D9DC-45FB-BEAB-A47DBC2E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1DE8-D7A5-4225-81C4-D4308879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CA0D-1C25-48BF-A6C4-5F4DD684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794-459E-46CD-A9CB-EFCB14FE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7123-AA7E-4CDB-80E1-060EB2FB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653E-46CE-4CB4-A1E4-5892A556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9C48-DEE4-480D-AC5D-72E719B0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A710-C1E7-45BF-A2C1-A4990B2A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2169-3BFE-470D-85AE-0DF29497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CA61-63BB-46B2-9530-FEBAF73E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F5B-1E0B-4F1A-978C-6222AE2B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8B62-E0B0-44B8-B766-FCCA1DBF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8FB-D1CC-46A1-B3C4-A90EDCB0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E6C-AD86-4B6B-BEDD-110B0C57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9DA2-F3ED-4E21-8408-79807E60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6FF7-7A9D-49A8-AB01-7FE6041C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1F5E-0460-4F96-B887-CFBDFC882B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BE4D-0FB2-440C-856F-6F53F17AEF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" Target="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Problem Solving </a:t>
            </a:r>
            <a:br>
              <a:rPr sz="3600"/>
            </a:b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and Supporting </a:t>
            </a:r>
            <a:br>
              <a:rPr sz="3600"/>
            </a:b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Algebraic Thinking at the </a:t>
            </a:r>
            <a:br>
              <a:rPr sz="3600"/>
            </a:b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iddle and Secondary Grad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Lake Michigan Acade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Amy Barto, Executive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s://www.curriculumcrafter.com/user/rptAnalysis.aspx?StandardID=1243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nguage: quadrants and other voca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  TLW represent directly proportional relationships using verbal descriptions, tables, graphs and formulas, and translate among these representations.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CS/CE(s): A.PA.07.07; A.RP.07.02;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about the standard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mmmmmmm……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equation in another lesson in this Academic Standard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, students have translated into tabular and graphic form. They should also be able to translate into verbal descriptions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xis has saved $4 and plans to save $2 more dollars each week. If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resents the number of weeks, the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resents the amount of money she will have at the end of the time she saved. (contextual verbal transl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umber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is four more than twice the number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 (algebraic verbal transl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What If’s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rt with the What If… (what if Alexis needs to save for a Playstation. She has saved $4 and plans to save $2 more dollars per week…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371600" y="6094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hematical power is the ability to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explor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to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conjectur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to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reason logicall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to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us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 variety of mathematical methods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effectivel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to solve problems.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352680" y="4343400"/>
            <a:ext cx="2167200" cy="212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caffolding Exploration and Effective Applica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4038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lve I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ebl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ebra T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Problem Sol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746960" y="1991160"/>
            <a:ext cx="4251960" cy="3684960"/>
            <a:chOff x="4746960" y="1991160"/>
            <a:chExt cx="4251960" cy="3684960"/>
          </a:xfrm>
        </p:grpSpPr>
        <p:sp>
          <p:nvSpPr>
            <p:cNvPr id="145" name="_s45062"/>
            <p:cNvSpPr/>
            <p:nvPr/>
          </p:nvSpPr>
          <p:spPr>
            <a:xfrm>
              <a:off x="5576040" y="1991160"/>
              <a:ext cx="2593440" cy="2596320"/>
            </a:xfrm>
            <a:custGeom>
              <a:avLst/>
              <a:gdLst>
                <a:gd name="textAreaLeft" fmla="*/ 0 w 2593440"/>
                <a:gd name="textAreaRight" fmla="*/ 2593800 w 2593440"/>
                <a:gd name="textAreaTop" fmla="*/ 0 h 2596320"/>
                <a:gd name="textAreaBottom" fmla="*/ 2596680 h 259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45063"/>
            <p:cNvSpPr/>
            <p:nvPr/>
          </p:nvSpPr>
          <p:spPr>
            <a:xfrm rot="7200000">
              <a:off x="5928120" y="2606400"/>
              <a:ext cx="2596680" cy="2593440"/>
            </a:xfrm>
            <a:custGeom>
              <a:avLst/>
              <a:gdLst>
                <a:gd name="textAreaLeft" fmla="*/ 0 w 2596680"/>
                <a:gd name="textAreaRight" fmla="*/ 2597040 w 2596680"/>
                <a:gd name="textAreaTop" fmla="*/ 0 h 2593440"/>
                <a:gd name="textAreaBottom" fmla="*/ 2593800 h 259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45064"/>
            <p:cNvSpPr/>
            <p:nvPr/>
          </p:nvSpPr>
          <p:spPr>
            <a:xfrm rot="14400000">
              <a:off x="5220360" y="2606040"/>
              <a:ext cx="2596680" cy="2593440"/>
            </a:xfrm>
            <a:custGeom>
              <a:avLst/>
              <a:gdLst>
                <a:gd name="textAreaLeft" fmla="*/ 0 w 2596680"/>
                <a:gd name="textAreaRight" fmla="*/ 2597040 w 2596680"/>
                <a:gd name="textAreaTop" fmla="*/ 0 h 2593440"/>
                <a:gd name="textAreaBottom" fmla="*/ 2593800 h 259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45065"/>
            <p:cNvSpPr/>
            <p:nvPr/>
          </p:nvSpPr>
          <p:spPr>
            <a:xfrm>
              <a:off x="7581960" y="2466360"/>
              <a:ext cx="1039680" cy="10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ncret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45066"/>
            <p:cNvSpPr/>
            <p:nvPr/>
          </p:nvSpPr>
          <p:spPr>
            <a:xfrm>
              <a:off x="6352560" y="4599000"/>
              <a:ext cx="1039320" cy="10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resentationa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45067"/>
            <p:cNvSpPr/>
            <p:nvPr/>
          </p:nvSpPr>
          <p:spPr>
            <a:xfrm>
              <a:off x="5122800" y="2467800"/>
              <a:ext cx="1039680" cy="10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bstra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ffective Problem Solv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Strategy = Works for ALL similar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lve I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Strategy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ts with organizing concepts and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AD the problem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ion or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oding m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dural thin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d Problems &amp;/or Di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oding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ding m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p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d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-talk &amp; rout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xt &amp; Symb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bols &amp; represen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 + y = 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04720" y="1981080"/>
            <a:ext cx="86392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at is the context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or this problem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important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it into (your own) words – LANGUAGE gives mea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52480" y="45720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ARAPHRAS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5334120"/>
            <a:ext cx="5791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Best Practices for Math Learning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189880" y="1951200"/>
            <a:ext cx="4766040" cy="4129200"/>
            <a:chOff x="2189880" y="1951200"/>
            <a:chExt cx="4766040" cy="4129200"/>
          </a:xfrm>
        </p:grpSpPr>
        <p:sp>
          <p:nvSpPr>
            <p:cNvPr id="109" name="_s25609"/>
            <p:cNvSpPr/>
            <p:nvPr/>
          </p:nvSpPr>
          <p:spPr>
            <a:xfrm>
              <a:off x="3119400" y="1951200"/>
              <a:ext cx="2906640" cy="290952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9520"/>
                <a:gd name="textAreaBottom" fmla="*/ 2909880 h 290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25610"/>
            <p:cNvSpPr/>
            <p:nvPr/>
          </p:nvSpPr>
          <p:spPr>
            <a:xfrm rot="7200000">
              <a:off x="3515040" y="2640600"/>
              <a:ext cx="2909520" cy="2906640"/>
            </a:xfrm>
            <a:custGeom>
              <a:avLst/>
              <a:gdLst>
                <a:gd name="textAreaLeft" fmla="*/ 0 w 2909520"/>
                <a:gd name="textAreaRight" fmla="*/ 2909880 w 290952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25612"/>
            <p:cNvSpPr/>
            <p:nvPr/>
          </p:nvSpPr>
          <p:spPr>
            <a:xfrm rot="14400000">
              <a:off x="2720880" y="2640240"/>
              <a:ext cx="2909520" cy="2906640"/>
            </a:xfrm>
            <a:custGeom>
              <a:avLst/>
              <a:gdLst>
                <a:gd name="textAreaLeft" fmla="*/ 0 w 2909520"/>
                <a:gd name="textAreaRight" fmla="*/ 2909880 w 290952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25607"/>
            <p:cNvSpPr/>
            <p:nvPr/>
          </p:nvSpPr>
          <p:spPr>
            <a:xfrm>
              <a:off x="5367240" y="2483640"/>
              <a:ext cx="1165320" cy="11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cre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25608"/>
            <p:cNvSpPr/>
            <p:nvPr/>
          </p:nvSpPr>
          <p:spPr>
            <a:xfrm>
              <a:off x="3989520" y="4873680"/>
              <a:ext cx="1164960" cy="11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presentation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25611"/>
            <p:cNvSpPr/>
            <p:nvPr/>
          </p:nvSpPr>
          <p:spPr>
            <a:xfrm>
              <a:off x="2611440" y="2485080"/>
              <a:ext cx="1165320" cy="11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bstra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6781680" y="2895480"/>
            <a:ext cx="78120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237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cc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W</a:t>
            </a:r>
            <a:endParaRPr b="0" lang="en-US" sz="2400" spc="1" strike="noStrike">
              <a:ln w="9360">
                <a:solidFill>
                  <a:srgbClr val="ffcc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00200" y="1981080"/>
            <a:ext cx="64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x+6+8y=64-12x+3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114300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is has saved $4 and plans to save $2 more dollars each week. I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presents the number of weeks, the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presents the amount of money she will have at the end of the time she save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geb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14400" y="1600200"/>
            <a:ext cx="2895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ariabl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7732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s and Expression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Equation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dratic Equation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ebra of Polynomials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atorics and Finite Prob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105520" y="2209680"/>
            <a:ext cx="276228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raph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90720" y="3809880"/>
            <a:ext cx="723888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itting Mathematical Models to Dat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5880" y="380880"/>
            <a:ext cx="2248200" cy="18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dds Are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chematic: A MAP or math bluep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52480" y="45720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ISUALIZ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5334120"/>
            <a:ext cx="5791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00200" y="1981080"/>
            <a:ext cx="64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x+6+8y=64-12x+3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114300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is has saved $4 and plans to save $2 more dollars each week. I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presents the number of weeks, the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presents the amount of money she will have at the end of the time she save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omet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14400" y="1600200"/>
            <a:ext cx="2895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ariabl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7732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izing” Algeb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orm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s = cheat codes for the world around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105520" y="2209680"/>
            <a:ext cx="276228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raph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3809880"/>
            <a:ext cx="723888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alyzing Mathematical Models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791320" y="762120"/>
            <a:ext cx="276228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sig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ting together the puzzle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up your mathematical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52480" y="45720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YPOTHESIZ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5334120"/>
            <a:ext cx="5791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14600" y="4572000"/>
            <a:ext cx="449568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TH POWER</a:t>
            </a:r>
            <a:endParaRPr b="0" lang="en-US" sz="1800" spc="1" strike="noStrike">
              <a:ln w="0">
                <a:noFill/>
              </a:ln>
              <a:solidFill>
                <a:srgbClr val="ffcc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600200" y="1981080"/>
            <a:ext cx="64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x+6+8y=64-12x+3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114300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is has saved $4 and plans to save $2 more dollars each week. I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presents the number of weeks, the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presents the amount of money she will have at the end of the time she save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Palatino Linotype"/>
              </a:rPr>
              <a:t>Implementation of Best Practic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Requires access to concrete supports at ALL age levels to reinforce 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12000" t="19859" r="19001" b="5926"/>
          <a:stretch/>
        </p:blipFill>
        <p:spPr>
          <a:xfrm>
            <a:off x="914400" y="2590920"/>
            <a:ext cx="4419720" cy="3408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>
            <a:lum bright="30000"/>
          </a:blip>
          <a:srcRect l="32232" t="0" r="0" b="-2058"/>
          <a:stretch/>
        </p:blipFill>
        <p:spPr>
          <a:xfrm>
            <a:off x="5867280" y="2971800"/>
            <a:ext cx="236232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371600" y="6094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hematical power is the ability to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explor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to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conjectur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to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reason logicall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nd to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us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a variety of mathematical methods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effectivel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to solve problems.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352680" y="4343400"/>
            <a:ext cx="2167200" cy="212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realistic tar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al is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ing – not a bullsey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52480" y="45720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STIMAT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5334120"/>
            <a:ext cx="5791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581280" y="3657600"/>
            <a:ext cx="1738440" cy="182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10552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p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ization &amp; Hypo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talk &amp; rout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ication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ctile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752480" y="45720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MPUT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00200" y="1981080"/>
            <a:ext cx="64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x+6+8y=64-12x+3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114300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is has saved $4 and plans to save $2 more dollars each week. I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presents the number of weeks, the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presents the amount of money she will have at the end of the time she save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10552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Inve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-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 I right?”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I am right AND I can prove i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3048120"/>
            <a:ext cx="990720" cy="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752480" y="45720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HEC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ultimate goal of mathematics education is for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all student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to develop mathematical power to participate fully as a citizen and worker in our contemporary worl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9480" y="4572000"/>
            <a:ext cx="2086200" cy="1727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400800" y="4572000"/>
            <a:ext cx="2035080" cy="1727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657600" y="4114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dditional Areas for Supporting Problem Solving Development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sual 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tial Re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Per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ing 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te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e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verbal Interpre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tial 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wn, C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Roadmap for Math Achievement for All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er for Comprehensive School Reform and Instr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Math Panel Reports, Jan.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lve 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nDerHeyden, A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TI and Math Instru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TI Action Net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sa, David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ow the Brain Learns Mathematic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an de Walle Professional Mathematics S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olve 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zensberger, Hans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Number Devi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199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acher’s Role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ing students with sufficient practice distributed over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ing a conceptually rich and varied mix of problems to support their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and support students in their efforts to master difficult mathematics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belie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effort, not just inherent talent, counts in learning mathematics can improve their performa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me Sources for Materi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6858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ETA Cuiseni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http://www.etacuisenaire.com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Exceptional Innov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000" spc="-1" strike="noStrike">
                <a:solidFill>
                  <a:srgbClr val="ffffff"/>
                </a:solidFill>
                <a:latin typeface="Arial"/>
              </a:rPr>
              <a:t>Solve It!: A Practical Approach to Teaching Mathematical Problem Solving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http://www.exinn.net/solve-i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Pearson AGS Glo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http://www.pearsonschool.com/index.cfm?locator=PSZ1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Key Curriculum 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http://www.keypress.com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62481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LDA of Amer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http://www.ldaamerica.u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National Library of Virtual Manipulat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http://nlvm.usu.ed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The Algebra Pro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www.algebra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Funbr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http://www.funbrain.com/math/index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National Council for Teachers of Mathe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http://illuminations.nctm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Wikispa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http://www.wikispaces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One Key Obstacle: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AT IS MATH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th Class Needs a Make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 Meyer (at 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 blog: http://blog.mrmeyer.com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 archive for algebra tags: http://blog.mrmeyer.com/?cat=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76201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Mathematics is the science of </a:t>
            </a:r>
            <a:r>
              <a:rPr b="0" i="1" lang="en-US" sz="4000" spc="-1" strike="noStrike">
                <a:solidFill>
                  <a:srgbClr val="ffcc66"/>
                </a:solidFill>
                <a:latin typeface="Arial"/>
              </a:rPr>
              <a:t>patterns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and relationship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It is the </a:t>
            </a:r>
            <a:r>
              <a:rPr b="0" i="1" lang="en-US" sz="4000" spc="-1" strike="noStrike">
                <a:solidFill>
                  <a:srgbClr val="ffcc66"/>
                </a:solidFill>
                <a:latin typeface="Arial"/>
              </a:rPr>
              <a:t>language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and logic of our technological wor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29000" y="4191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ter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S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486400" y="15998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 rot="20851200">
            <a:off x="685440" y="4114440"/>
            <a:ext cx="441972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ncept Base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OMEWOR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anguage and Log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 of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dra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ed P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o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ing Patterns thr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ctive Reas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ductive Reas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s, Theorems and Proo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90720" y="1599840"/>
            <a:ext cx="7696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s: Developing Math Dendrites &amp; Supporting Pattern Recognition and Languag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velty + Application can develop Fluid Thinking while Mastering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s Observation: Bring at least # examples of addition you observe over the next 24 hours. [CLASSROOM: Record these in math language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81080" y="533520"/>
            <a:ext cx="56390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RACT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01:49:26Z</dcterms:created>
  <dc:creator>Barto</dc:creator>
  <dc:description/>
  <dc:language>en-US</dc:language>
  <cp:lastModifiedBy>Barto</cp:lastModifiedBy>
  <dcterms:modified xsi:type="dcterms:W3CDTF">2010-11-15T17:39:09Z</dcterms:modified>
  <cp:revision>37</cp:revision>
  <dc:subject/>
  <dc:title>Supporting Students  for Mathematical Success</dc:title>
</cp:coreProperties>
</file>